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9BF-6B22-4F24-9BBE-76E0D094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C7F-13DA-4A0B-8939-79DD8178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BE4-A3E9-44F2-B489-68325051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DF2-4AEC-44D0-BABD-FF25435A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D028-B220-43DC-A464-75E2ABEB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1C2A-8B75-48E3-96A6-BA35336C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543C-AB86-48F6-9B6F-527B8354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F85A-8EF2-4C66-A91D-E7877B9E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CCA3-5929-46DE-9FE2-A0127161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B223-DB7E-4D98-B3B9-8BC2822A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D914-617D-47D0-BB0C-0B9BF340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E5B-F9F7-49A2-8658-03303607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4499-E739-4700-A3D1-5DCAA5E5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937A-5CC4-4BA9-8BF2-481C8879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5724-3B73-4B9C-BB4C-8E2240EC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F4DB-A0D5-4AB4-9CAC-DA092603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12EF-0F08-4D31-99D7-DEF6CC5B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1E3-83FC-4762-B78D-8FE5DC1B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AD3-B2A5-4A05-8D73-967F25B6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61C-DD7D-4875-B796-0489895F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009-37E4-40DB-B8FE-CDFBD065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8B2-F5AD-4E0F-86A3-9D63BA9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CD0-3E87-4DE0-8B71-7ABED2B3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801-60F6-4910-8514-DC4D25C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C3E4-0536-46D4-9FF1-61CF2BBC24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8DFD-559F-4AB3-8730-859F876DA18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FREKVENSBÅNDE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RINGKASTNINGSSIGNAL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Frekvens-spekteret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8677080" cy="4181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435640" y="1989000"/>
            <a:ext cx="100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DVB-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1989000"/>
            <a:ext cx="100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DVB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V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Very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7-68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87,5-108MHz (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I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74-230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U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Ultra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70-606MHz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kanal 21-37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06-862MHz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kanal 38-69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nalbredde er 8 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nal 21 har da 474MHZ som senterfrekven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8569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S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Super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C-BÅNDET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3,70 - 4,20G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Ku-BÅNDET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10,70-12,75G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3666960"/>
            <a:ext cx="76201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0:33:56Z</dcterms:created>
  <dc:creator>tagro</dc:creator>
  <dc:description/>
  <dc:language>en-US</dc:language>
  <cp:lastModifiedBy>tagro</cp:lastModifiedBy>
  <dcterms:modified xsi:type="dcterms:W3CDTF">2009-03-27T10:16:34Z</dcterms:modified>
  <cp:revision>17</cp:revision>
  <dc:subject/>
  <dc:title>Lysbilde 1</dc:title>
</cp:coreProperties>
</file>