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5F9-36A7-4773-9555-59807DA6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02E-AFA4-4E83-A9B6-4795E1CC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BF7-0EAA-4251-9EE5-39F9DE5A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745-93E8-4DB8-809E-C252D5C0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B77D-C166-49C4-B2C4-A87FF445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2001-B9B8-4D39-820C-E98B0B8C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069D-DCEB-4E5D-98F3-C0EF0637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6A8D-48FC-479A-BF07-883F35EE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48E9-BD37-47F5-9B70-1D206E97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71D1-4718-42F5-922C-C1A66A8A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14BC-C6FE-4F52-A15C-6D0B056B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E29-6227-4D92-ADD3-4D5B6997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7946-3E39-4A06-9E0D-B7D5F7D3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86A0-0AE8-4755-93E2-C5B291A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9F66-2105-4341-9E0B-4E937764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F85F-A6CA-4FD8-8E88-BB44D085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8A83-A0B9-453E-BAA3-9357DFCB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6C0-5E77-4BCF-8230-F2D78E6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5F2-EABE-405F-9342-7C3C39F1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DF9-9E7E-44D3-855B-86A479F7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A1A-89FB-42BB-9DE3-ADFEA301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CDE-A13D-463A-B01D-EBD1626F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B3D-D23B-4DE6-AC7E-C812E0B2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318-F4C7-4EA8-853A-25002F5C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AFD-1CE4-4688-AE02-C5B34DE835A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0EEF-8AF9-40D7-9C64-72AFE7E78C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FREKVENSBÅNDE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RINGKASTNINGSSIGNA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Frekvens-spektere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677080" cy="4181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V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Very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-68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7,5-108MHz (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74-230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U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Ultra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0-606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21-37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06-862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38-6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bredde er 8 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 21 har da 474MHZ som senterfrekve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569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S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Super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C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3,70 - 4,2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Ku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10,70-12,75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3666960"/>
            <a:ext cx="7620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0:33:56Z</dcterms:created>
  <dc:creator>tagro</dc:creator>
  <dc:description/>
  <dc:language>en-US</dc:language>
  <cp:lastModifiedBy>tagro</cp:lastModifiedBy>
  <dcterms:modified xsi:type="dcterms:W3CDTF">2009-03-27T10:16:34Z</dcterms:modified>
  <cp:revision>17</cp:revision>
  <dc:subject/>
  <dc:title>Lysbilde 1</dc:title>
</cp:coreProperties>
</file>