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BA3-9761-456C-BDBA-5226FA4D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65D-61B6-48A7-81EF-2DDBC0F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E2F-23FA-4BCB-85B3-58F644A8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84B-BC41-45B1-9301-76A0FADA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35CB-F7AA-4F16-BABA-D91A081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6A15-8328-4871-9CD8-F4F82448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E8C-D9CB-4AD0-946B-044461B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43C0-38EF-470B-8E3B-5C14FAF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C29E-F8C5-4DE7-A1CF-977D877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2D1-2D9F-4240-9A21-63A30B8D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A6E8-EAA7-4807-A692-0A479EB8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10D-AF0B-41F9-8BC8-469E7AED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93EE-8F62-40F0-8870-7287B63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9DCC-5518-493F-8BEC-1E47C7A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DD73-FF6D-4A39-997C-1BADCA4A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5AD-2457-4100-B1BC-86712C4E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34FB-1F5A-4B20-9931-CB6F53F7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A66-A946-4EEE-AAEE-05E2BE8C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41F-578D-43D4-B2AA-14184724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BD3-8CE0-42B4-BFD4-301D003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B59-2196-4342-A012-38DD96C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988-8F5D-4F4D-BEF0-D3E719B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9B6-92FE-4275-B856-E9FD838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39A-7692-44EF-B8E9-5B616D6A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5B8-DF46-4361-A6B1-14FFB9D740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6CC1-9A13-4570-851B-32E9F849B3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EKVENSBÅND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RINGKASTNINGSSIGNA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Frekvens-spekter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677080" cy="418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198900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DVB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V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Very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-68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7,5-108MHz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F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I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74-230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U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Ultra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I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70-606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21-3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ÅND 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06-862MHz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kanal 38-6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bredde er 8 M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al 21 har da 474MHZ som senterfrekve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569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cc66"/>
                </a:solidFill>
                <a:latin typeface="Arial"/>
              </a:rPr>
              <a:t>SHF</a:t>
            </a: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nb-NO" sz="4000" spc="-1" strike="noStrike">
                <a:solidFill>
                  <a:srgbClr val="ffcc66"/>
                </a:solidFill>
                <a:latin typeface="Arial"/>
              </a:rPr>
              <a:t>(Super High Frequenc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C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3,70 - 4,2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Ku-BÅNDET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b-NO" sz="3200" spc="-1" strike="noStrike">
                <a:solidFill>
                  <a:srgbClr val="ffffff"/>
                </a:solidFill>
                <a:latin typeface="Verdana"/>
              </a:rPr>
              <a:t>10,70-12,75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666960"/>
            <a:ext cx="7620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33:56Z</dcterms:created>
  <dc:creator>tagro</dc:creator>
  <dc:description/>
  <dc:language>en-US</dc:language>
  <cp:lastModifiedBy>tagro</cp:lastModifiedBy>
  <dcterms:modified xsi:type="dcterms:W3CDTF">2009-03-27T10:16:34Z</dcterms:modified>
  <cp:revision>17</cp:revision>
  <dc:subject/>
  <dc:title>Lysbilde 1</dc:title>
</cp:coreProperties>
</file>